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D12-5642-4A0A-8AB0-A7CD817A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B73-00D8-41C7-B6FF-DDA87B0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488-43CC-432B-AFF8-14CACFEE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513-6629-4A04-9D92-EA88EE65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92F-B85E-457C-8ED8-1B1F0A4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03E-70D4-470A-B605-DA668B2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827-A43A-42ED-997D-62E1FA5E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A1D-DECD-4E0E-A82D-3BD72E1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320-A1A1-43EA-97DA-22C6931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72B-CB9A-4951-AC95-A2346087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DE2-1264-4071-A898-C355E29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AE6-B07D-477A-BDFA-675C9D8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CCAB-0504-4ED6-9DD1-4AB30724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ingclips.com/movie-clips/holiday-for-love/make-a-fool-of-yourself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11-29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and analyze the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essage is the author trying to get across in the following cl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ngclips.com/movie-clips/holiday-for-love/make-a-fool-of-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made about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riter’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writer wants you to remember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 needs to be based on certain things characters say and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clues the author gives you together to uncover the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message understood by all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is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possible themes associated with friend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3618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come and go 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9640" y="415440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riends can get people through the most difficult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160" y="4687920"/>
            <a:ext cx="84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riendship is one of the most satisfying thing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bout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280"/>
            <a:ext cx="8228880" cy="4524480"/>
            <a:chOff x="380880" y="152280"/>
            <a:chExt cx="8228880" cy="4524480"/>
          </a:xfrm>
        </p:grpSpPr>
        <p:cxnSp>
          <p:nvCxnSpPr>
            <p:cNvPr id="52" name="_s5135"/>
            <p:cNvCxnSpPr>
              <a:stCxn id="53" idx="0"/>
              <a:endCxn id="54" idx="2"/>
            </p:cNvCxnSpPr>
            <p:nvPr/>
          </p:nvCxnSpPr>
          <p:spPr>
            <a:xfrm flipV="1" rot="16200000">
              <a:off x="5642640" y="81360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5132"/>
            <p:cNvCxnSpPr>
              <a:stCxn id="56" idx="0"/>
              <a:endCxn id="54" idx="2"/>
            </p:cNvCxnSpPr>
            <p:nvPr/>
          </p:nvCxnSpPr>
          <p:spPr>
            <a:xfrm flipV="1" rot="16200000">
              <a:off x="4575960" y="188028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5131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3509280" y="188028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5130"/>
            <p:cNvCxnSpPr>
              <a:stCxn id="60" idx="0"/>
              <a:endCxn id="54" idx="2"/>
            </p:cNvCxnSpPr>
            <p:nvPr/>
          </p:nvCxnSpPr>
          <p:spPr>
            <a:xfrm flipH="1" flipV="1" rot="5400000">
              <a:off x="2442600" y="81360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5126"/>
            <p:cNvSpPr/>
            <p:nvPr/>
          </p:nvSpPr>
          <p:spPr>
            <a:xfrm>
              <a:off x="3581280" y="1522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cis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27"/>
            <p:cNvSpPr/>
            <p:nvPr/>
          </p:nvSpPr>
          <p:spPr>
            <a:xfrm>
              <a:off x="38088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llaces, Simms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d other whi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isrespect the Loga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d T.J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28"/>
            <p:cNvSpPr/>
            <p:nvPr/>
          </p:nvSpPr>
          <p:spPr>
            <a:xfrm>
              <a:off x="251424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ma explains so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hites think blac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en’t equal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29"/>
            <p:cNvSpPr/>
            <p:nvPr/>
          </p:nvSpPr>
          <p:spPr>
            <a:xfrm>
              <a:off x="464796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lacks have bee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rned or lynche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y white m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4"/>
            <p:cNvSpPr/>
            <p:nvPr/>
          </p:nvSpPr>
          <p:spPr>
            <a:xfrm>
              <a:off x="678132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pa gets shot 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.J. gets beat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819520" y="4191120"/>
            <a:ext cx="3352680" cy="25146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ho don’t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can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unfairl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be danger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601992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569640" y="52408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0760" y="24444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157000">
            <a:off x="5790960" y="990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3360" y="5410080"/>
            <a:ext cx="24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vidence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80060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668800">
            <a:off x="1904760" y="4495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is the theme 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arrison Berg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1" name="_s8204"/>
            <p:cNvCxnSpPr>
              <a:stCxn id="72" idx="0"/>
              <a:endCxn id="73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8203"/>
            <p:cNvCxnSpPr>
              <a:stCxn id="75" idx="0"/>
              <a:endCxn id="73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8202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680200" y="2422800"/>
              <a:ext cx="905400" cy="287820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8198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8199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8200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1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llowing question in your Reading Respons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theme in your short stor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phic organi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you write in your RR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first about the topic.  Then, use at least two pieces of text evidence to support your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57:01Z</dcterms:created>
  <dc:creator>Administrator</dc:creator>
  <dc:description/>
  <dc:language>en-US</dc:language>
  <cp:lastModifiedBy>Administrator</cp:lastModifiedBy>
  <dcterms:modified xsi:type="dcterms:W3CDTF">2010-11-30T18:59:30Z</dcterms:modified>
  <cp:revision>14</cp:revision>
  <dc:subject/>
  <dc:title>Theme</dc:title>
</cp:coreProperties>
</file>